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917-396C-41E7-93E6-23FA8584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2FB-F674-419A-B4C5-80DD7283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D44-B7AE-416F-9B8B-818E9455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BF4-BB59-4703-AA3F-A8A22E6F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6F4-C856-432E-A869-6AE996EB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A45-1FE6-49BC-BFCE-E2A89A7A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E82-B282-4DE2-B634-4BB7815E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9BA-72FF-44D9-B5CB-9540FBB3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B7E-88B0-4686-BB1F-C3615786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2B6-7EDE-4729-B8D0-C452AC64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42F-4CA6-4E13-9AE0-59282006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9B9-7DED-4B56-BC5A-3B49B8B9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45A3-CC02-47E4-AAE9-45C2C8313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UNIVERSIDAD PERUANA LOS AN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CULTAD DE INGENIERI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ROGRAMA: CORRECCION DE 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OR: JUAN CARLOS MARTINEZ ESPINO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172200" y="1905120"/>
          <a:ext cx="256212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905120"/>
                    <a:ext cx="25621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352680" y="990720"/>
          <a:ext cx="243864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>
                    <a:alphaModFix amt="48000"/>
                  </a:blip>
                  <a:stretch/>
                </p:blipFill>
                <p:spPr>
                  <a:xfrm>
                    <a:off x="3352680" y="990720"/>
                    <a:ext cx="2438640" cy="2971800"/>
                  </a:xfrm>
                  <a:prstGeom prst="rect">
                    <a:avLst/>
                  </a:prstGeom>
                  <a:ln w="9360">
                    <a:solidFill>
                      <a:srgbClr val="808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ste programa calcula la corrección de las longitudes tomadas en campo, ya sean por horizontalidad, por tensión, por temperatura, por coeficiente de dilatación térmica, por catenaria, y luego da la distancia medida, ya corregida por todos los aspe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PARA UNA MEJOR EXPLICACION, SE REALIZARÁ UN 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JM. Se tiene una longitud medida c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ongitud medida = 342.448 m, sobre una acera con pendiente de 2.5 %, la tensión aplicada a la wincha es de 4 Kgs, y la temperatura media observada de 32 º C, y se ve que es 2 cm mas corta la wincha cuando es de 4 Kgs la tensión, sabiendo que la wincha es de 25 m.  , ¿cual es la DISTANCIA VERDADERA DE LA MEDI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7086600" cy="533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CORRECCION DE ERR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5335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SOLUCION AL 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219320"/>
            <a:ext cx="4038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Primero se va a presionar el programa, luego pide el ingreso de la longitud med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siend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342.44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nter, luego pide longitud verdadera, y longitud deformada,  en este caso la verdadera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25m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, y la deformada según lo indicado en el ejemplo, que es 2 cm, menos,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24.98 m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91320" y="1295280"/>
          <a:ext cx="252396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295280"/>
                    <a:ext cx="252396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791320" y="4267080"/>
          <a:ext cx="2533680" cy="12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267080"/>
                    <a:ext cx="253368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5181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nter, ahora pide una corrección por horizontabilidad, si hubiera escoger sí, de lo contrario, no. Para el ejemplo consideramos si </a:t>
            </a:r>
            <a:r>
              <a:rPr b="0" lang="es-ES_trad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Ahora pide si se va a corregir por (h) con referente a el desnivel que se tiene de la pendiente, o con %P, referente a la pendiente con que se cuenta, escogeremos la 2, porque el ejemplo nos da este d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ntonces ingresar este dato que es 2.5 %, lo cual se pondrá en el progr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Y e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943600" y="685800"/>
          <a:ext cx="255276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685800"/>
                    <a:ext cx="25527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943600" y="2514600"/>
          <a:ext cx="2523960" cy="12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514600"/>
                    <a:ext cx="25239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943600" y="4800600"/>
          <a:ext cx="2543040" cy="12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4800600"/>
                    <a:ext cx="25430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5715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00"/>
                </a:solidFill>
                <a:latin typeface="Times New Roman"/>
              </a:rPr>
              <a:t>Ahora el programa calcula y da el result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00"/>
                </a:solidFill>
                <a:latin typeface="Times New Roman"/>
              </a:rPr>
              <a:t>En lo cual se ve H=8.5585, que es la diferencia de altura existente, en lo largo de la acera.,  en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y nos da el resultado de CH</a:t>
            </a:r>
            <a:r>
              <a:rPr b="0" lang="es-ES_trad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corrección por horizontalidad. E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Nos pide si hay corrección por tensión. En este caso no hay en el problema  entonces </a:t>
            </a:r>
            <a:r>
              <a:rPr b="0" lang="es-ES_trad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2. Enter, y nos pide por temperatura, si existe. E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Ingresar  los datos To= temperatura a que está calibrada la wincha,(fabrica), y  T, la temperatura a que se somete, (clima). E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248520" y="380880"/>
          <a:ext cx="2571480" cy="12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80880"/>
                    <a:ext cx="257148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248520" y="1905120"/>
          <a:ext cx="2533680" cy="12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1905120"/>
                    <a:ext cx="253368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324480" y="3581280"/>
          <a:ext cx="2552760" cy="125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581280"/>
                    <a:ext cx="25527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324480" y="5257800"/>
          <a:ext cx="2571840" cy="128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4480" y="5257800"/>
                    <a:ext cx="257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2280" y="228600"/>
            <a:ext cx="60962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Ingrese el coeficiente de dilatación térmica si el problema te dá este dato, entonces </a:t>
            </a:r>
            <a:r>
              <a:rPr b="0" lang="es-ES_trad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1 si, si no da el problema, como es el caso, entonces </a:t>
            </a:r>
            <a:r>
              <a:rPr b="0" lang="es-ES_trad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2 no. Ent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Y nos dará la corrección por tempera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Ahora, enter, y por catenaria, si tiene o no, en este caso no tiene, porque la cinta está apoyada. E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Y finalmente nos dará la longitud total corregida, como se observa es: 342.1164 m, con respecto a lo tomado al inicio que era : 342.448, lo que quiere decir que se ha corregido una diferencia de 0.3316 cm. D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400800" y="228600"/>
          <a:ext cx="256212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228600"/>
                    <a:ext cx="25621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400800" y="1752480"/>
          <a:ext cx="2552760" cy="12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752480"/>
                    <a:ext cx="255276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400800" y="3276720"/>
          <a:ext cx="2543040" cy="12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276720"/>
                    <a:ext cx="25430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400800" y="4876920"/>
          <a:ext cx="2571840" cy="128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4876920"/>
                    <a:ext cx="257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13:44:00Z</dcterms:created>
  <dc:creator>Pentium IV</dc:creator>
  <dc:description/>
  <dc:language>en-US</dc:language>
  <cp:lastModifiedBy>Pentium IV</cp:lastModifiedBy>
  <dcterms:modified xsi:type="dcterms:W3CDTF">2003-05-16T15:23:29Z</dcterms:modified>
  <cp:revision>2</cp:revision>
  <dc:subject/>
  <dc:title>CORRECCION DE ERRORES</dc:title>
</cp:coreProperties>
</file>